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bg-BG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C80466E-1CE9-4985-82C6-1C3BC72EA3D3}" type="slidenum">
              <a:rPr b="0" lang="bg-BG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31D5CC4-633B-46C2-86D2-BFE3F516AF09}" type="slidenum">
              <a:rPr b="0" lang="bg-BG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0817-0E67-4C28-8CB4-56FC2C748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A032-5AB4-4F98-954C-EFE4A77E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B4FC-FB3F-4A55-AFEB-A84F51F69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A1F6-9892-4A85-9740-4C89FDB18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4942-D8D4-48B3-9910-1F026D95A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39A1-7B80-416A-A782-6DA55945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3948-E982-4765-9D65-D37B7BF3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488A-5308-4046-91D3-9C0D1501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2D105-61E0-4BCA-84FD-ADA75F87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C530-504A-40B5-B862-DA6BA7B1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7319-4099-4DC5-8FD1-4FB1A03A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3876-9155-4EC0-A19C-6E68390F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2963F-AAEE-4FC8-BBD6-0D663F89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0D8B-0146-4730-84C6-6BF4AF78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9A97-02E7-4F82-B8FE-D7B5445F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2573A-3B2A-4EED-9968-A4029E6C4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1601-D2C3-407A-B497-5F3F6C165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1DD9B-FA8A-4E7C-84E0-965FB6F52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42EBE-5C38-4563-B0CA-51443EE6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86D35-3B94-4820-B575-14985449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A824A-AE85-4612-A882-EF5CD8ED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513B0-BB59-4643-9F50-F3E98000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3CDD-57E2-4729-AE84-D938BFD1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3000A-5B47-490A-BFD8-F7CE44FD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C5421-92BB-4C97-BD61-DB3EF0A2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8D14E-1CE5-4920-B2F2-12FD2DAC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873AA-8256-42A8-9614-ACA1AF45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48D7A-FB46-4916-B316-A7AD0D26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7CAE2-7E8B-45AA-ABD0-02282C0E2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CF965-5D15-459F-8C35-E57C35EE0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E4F9-1264-474D-BB53-42A00D2C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9E80-5448-4C82-B3E6-1B335CD0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6A92-34F3-419D-80BA-E3D7B3FD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6079-2200-44B7-8660-DB805B05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C1CD-BCC6-4999-8448-91960249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26FB-5A24-4B83-B257-240CFC09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945B-71D1-4CA9-AAD2-DA8BF640E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E7ED-E8DC-4BE3-BD96-F34DEB386FC8}" type="slidenum">
              <a:rPr b="0" lang="bg-BG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D095-F49C-461A-9E15-0BD2D614D5C3}" type="slidenum">
              <a:rPr b="0" lang="bg-BG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Line 5"/>
          <p:cNvSpPr/>
          <p:nvPr/>
        </p:nvSpPr>
        <p:spPr>
          <a:xfrm>
            <a:off x="2581200" y="901800"/>
            <a:ext cx="48132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3" name="Object 6"/>
          <p:cNvGraphicFramePr/>
          <p:nvPr/>
        </p:nvGraphicFramePr>
        <p:xfrm>
          <a:off x="527040" y="351000"/>
          <a:ext cx="862200" cy="88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" y="351000"/>
                    <a:ext cx="862200" cy="88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Rectangle 7"/>
          <p:cNvSpPr/>
          <p:nvPr/>
        </p:nvSpPr>
        <p:spPr>
          <a:xfrm>
            <a:off x="7128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7128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0" y="156960"/>
            <a:ext cx="9144000" cy="13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МЕДИЦИНСКИ УНИВЕРСИТЕТ </a:t>
            </a:r>
            <a:r>
              <a:rPr b="1" lang="bg-BG" sz="24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–</a:t>
            </a:r>
            <a:r>
              <a:rPr b="1" lang="bg-BG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ПЛЕВЕН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bg-BG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ФАКУЛТЕТ „ОБЩЕСТВЕНО ЗДРАВЕ“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bg-BG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ЦЕНТЪР ЗА ДИСТАНЦИОННО ОБУЧЕНИЕ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64960" y="161604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62673"/>
                </a:solidFill>
                <a:latin typeface="Arial Black"/>
              </a:rPr>
              <a:t>Лекция №1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WordArt 5"/>
          <p:cNvSpPr txBox="1"/>
          <p:nvPr/>
        </p:nvSpPr>
        <p:spPr>
          <a:xfrm>
            <a:off x="433440" y="2540160"/>
            <a:ext cx="839448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НФОРМАЦИОННИ ТЕХНОЛОГИИ В МЕДИЦИНАТ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WordArt 6"/>
          <p:cNvSpPr txBox="1"/>
          <p:nvPr/>
        </p:nvSpPr>
        <p:spPr>
          <a:xfrm>
            <a:off x="1082520" y="3728880"/>
            <a:ext cx="7363080" cy="166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средства за обработка на информация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4716360" y="6058080"/>
            <a:ext cx="40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62673"/>
                </a:solidFill>
                <a:latin typeface="Arial Black"/>
              </a:rPr>
              <a:t>Доц. Инж. Георги Цанев, д.т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8T12:58:53Z</dcterms:created>
  <dc:creator>Canev</dc:creator>
  <dc:description/>
  <dc:language>en-US</dc:language>
  <cp:lastModifiedBy>Georgi_Tzanev</cp:lastModifiedBy>
  <dcterms:modified xsi:type="dcterms:W3CDTF">2017-02-06T07:05:36Z</dcterms:modified>
  <cp:revision>463</cp:revision>
  <dc:subject/>
  <dc:title>Slide 1</dc:title>
</cp:coreProperties>
</file>