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bg-BG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5AC34D3-C02A-4E87-B70A-A66909D1943C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BF5EC08-242D-437F-A7D1-E92776D08C60}" type="slidenum">
              <a:rPr b="0" lang="bg-BG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bg-BG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9B65-E160-4DC6-98A5-68F69837E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6E83-4BD4-4847-AA3A-C848A7CC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AA3D-6572-4F85-8576-1A9BA8C91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A4B9-E6F4-4DA8-88FB-2D370D30A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27C-E989-49EA-A2B3-0042CF171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424F7-AFBF-4AD6-A737-232E3A9E2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F1DF2-833F-4DC0-A079-75E47CEB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CEE7E-7719-43F7-8AEB-4596727A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65EA9-0585-47D8-8858-B96CE7DE1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A381-F505-4E3E-84E3-892D5142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06A74-4C33-4163-9632-282DDB5D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23AC-810A-4B33-B5C9-645505B3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8FD0D-EA84-45D0-8A97-03B9892D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FE82E-AE1E-4CBD-9394-5707CA17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349D0-7CFA-41BE-A7BC-A76474B9D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47D3F-A8DB-41A5-97BA-D5CAC5890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E385F-2D3A-43C1-A1F1-E5A49BDF6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A956-E6FD-4160-93DC-8EA7C9310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C61A-CA00-4C6E-8C5A-BF6D88EF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B11D1D-5A84-417D-B491-02CABF7BE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08F09-EC32-4EA3-B8E9-84A25729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9858FC-F68B-4014-8EBD-77172CB95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7C0-AF22-49E2-A422-EE95B5EF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799454-1CA7-4EAB-9CE1-34AE31C3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C508B-4701-4C3F-9829-0B2D11C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DD30E-0147-41A3-AFD6-DE7B3BDA0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C1A7E-AB3D-45D2-99E1-4928F5F6D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6A3BE8-797C-44BC-83CC-254B0650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DFEFF-E003-4F89-9111-29B1639B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BD23FC-C8B3-4EAB-8866-6B83CBFA0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4F93-44B0-4F02-A203-26E53D8B0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46BD-67F8-465B-8495-8902A22DE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6EBA-D9BC-429B-8B03-E25128261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7972-AD57-4509-9EFD-3A16DE2B4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2C0C-53F9-46D9-B367-8618C4A9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2045-0038-4619-B700-FE683671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F357-B58C-4D4E-81C0-449A6DBCF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8B92-1D2C-4703-9183-69DEA39EACBF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bg-BG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2E2-C6B1-4C63-B3A8-D1DB22D15875}" type="slidenum">
              <a:rPr b="0" lang="bg-BG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Line 5"/>
          <p:cNvSpPr/>
          <p:nvPr/>
        </p:nvSpPr>
        <p:spPr>
          <a:xfrm>
            <a:off x="2581200" y="901800"/>
            <a:ext cx="481320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133" name="Object 6"/>
          <p:cNvGraphicFramePr/>
          <p:nvPr/>
        </p:nvGraphicFramePr>
        <p:xfrm>
          <a:off x="527040" y="351000"/>
          <a:ext cx="862200" cy="88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" y="351000"/>
                    <a:ext cx="862200" cy="88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Rectangle 7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Rectangle 8"/>
          <p:cNvSpPr/>
          <p:nvPr/>
        </p:nvSpPr>
        <p:spPr>
          <a:xfrm>
            <a:off x="71280" y="2833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Rectangle 9"/>
          <p:cNvSpPr/>
          <p:nvPr/>
        </p:nvSpPr>
        <p:spPr>
          <a:xfrm>
            <a:off x="0" y="156960"/>
            <a:ext cx="9144000" cy="13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МЕДИЦИНСКИ УНИВЕРСИТЕТ </a:t>
            </a:r>
            <a:r>
              <a:rPr b="1" lang="bg-BG" sz="2400" spc="-1" strike="noStrike">
                <a:solidFill>
                  <a:srgbClr val="333399"/>
                </a:solidFill>
                <a:latin typeface="Arial Black"/>
                <a:ea typeface="Times New Roman"/>
              </a:rPr>
              <a:t>–</a:t>
            </a:r>
            <a:r>
              <a:rPr b="1" lang="bg-BG" sz="2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ПЛЕВЕН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	</a:t>
            </a:r>
            <a:r>
              <a:rPr b="1" lang="bg-BG" sz="2000" spc="-1" strike="noStrike">
                <a:solidFill>
                  <a:srgbClr val="333399"/>
                </a:solidFill>
                <a:latin typeface="Arial"/>
                <a:ea typeface="Times New Roman"/>
              </a:rPr>
              <a:t>ФАКУЛТЕТ „ОБЩЕСТВЕНО ЗДРАВЕ“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	</a:t>
            </a:r>
            <a:r>
              <a:rPr b="1" lang="bg-BG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ЦЕНТЪР ЗА ДИСТАНЦИОННО ОБУЧЕНИЕ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264960" y="1616040"/>
            <a:ext cx="196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Лекция №1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WordArt 5"/>
          <p:cNvSpPr txBox="1"/>
          <p:nvPr/>
        </p:nvSpPr>
        <p:spPr>
          <a:xfrm>
            <a:off x="433440" y="2540160"/>
            <a:ext cx="8394480" cy="6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ИНФОРМАЦИОННИ ТЕХНОЛОГИИ В МЕДИЦИНАТ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WordArt 6"/>
          <p:cNvSpPr txBox="1"/>
          <p:nvPr/>
        </p:nvSpPr>
        <p:spPr>
          <a:xfrm>
            <a:off x="1082520" y="3728880"/>
            <a:ext cx="7363080" cy="166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средства за обработка на информац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141" name="Text Box 4"/>
          <p:cNvSpPr/>
          <p:nvPr/>
        </p:nvSpPr>
        <p:spPr>
          <a:xfrm>
            <a:off x="4716360" y="6058080"/>
            <a:ext cx="409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800" spc="-1" strike="noStrike">
                <a:solidFill>
                  <a:srgbClr val="262673"/>
                </a:solidFill>
                <a:latin typeface="Arial Black"/>
              </a:rPr>
              <a:t>Доц. Инж. Георги Цанев, д.т.</a:t>
            </a: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8T12:58:53Z</dcterms:created>
  <dc:creator>Canev</dc:creator>
  <dc:description/>
  <dc:language>en-US</dc:language>
  <cp:lastModifiedBy>Georgi_Tzanev</cp:lastModifiedBy>
  <dcterms:modified xsi:type="dcterms:W3CDTF">2017-02-06T07:05:36Z</dcterms:modified>
  <cp:revision>463</cp:revision>
  <dc:subject/>
  <dc:title>Slide 1</dc:title>
</cp:coreProperties>
</file>