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DD3-B680-4F8C-8438-D55860DE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D89-6514-4ED8-8856-FF55B48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C71-9889-4762-BCE7-EEECE566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126-A2AD-46A6-BA76-E077858E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2157-7546-4F86-9420-275AA99E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E86C-04DC-46D7-802E-63BC03EC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8BF4-DA80-4F29-8CE7-7096464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D1EE-CFA9-41F1-A952-336D2C2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9E4A-F5BC-4BF4-97F5-E463AF9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1D05-9E99-411C-9FDF-37E76BE0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95E9-FA75-4294-8440-B7308BF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3FA-F6EB-40C0-A682-9AFF9AE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FABB-0757-4594-A33B-5AB61D8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62A9-4C82-4B5C-90E1-0D7C088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4D6-9640-4718-9306-6F5FF2A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9845-2FC8-4B0B-BB8C-0F813FCA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E481-5949-4B7A-82C4-8028F97A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3FB-B052-4A5D-B64D-26C3634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7A4-4DE9-492D-9C56-990D1A6E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D41-8028-4F24-BBE7-FE47C41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2AA-1689-4750-B473-FADF8ED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605-CDC3-4A4D-9B50-335FEBF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14B-06AF-496B-9337-597D702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D0F-6CFF-45F2-A6A4-40325712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97D9-C635-4FC4-AB03-253C7B377ED3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B36-2D03-4154-804C-A3AD81E7E0C0}" type="slidenum">
              <a:rPr b="0" lang="bg-BG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5"/>
          <p:cNvGraphicFramePr/>
          <p:nvPr/>
        </p:nvGraphicFramePr>
        <p:xfrm>
          <a:off x="179280" y="404640"/>
          <a:ext cx="1071720" cy="10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107172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324000" y="404640"/>
            <a:ext cx="7812000" cy="11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MEDICAL UNIVERSITY - PLEVEN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FACULTY OF MEDICIN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0f0d"/>
                </a:solidFill>
                <a:latin typeface="Verdana"/>
              </a:rPr>
              <a:t>DEVISION OF PHYSICS AND BIOPHYS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1547640" y="1160640"/>
            <a:ext cx="540072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3" descr="Capture"/>
          <p:cNvPicPr/>
          <p:nvPr/>
        </p:nvPicPr>
        <p:blipFill>
          <a:blip r:embed="rId3"/>
          <a:stretch/>
        </p:blipFill>
        <p:spPr>
          <a:xfrm>
            <a:off x="0" y="2403360"/>
            <a:ext cx="7848720" cy="3294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250920" y="188136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2f1311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176720" y="60498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Prof. M. Alexsandrova, DSc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9:09:48Z</dcterms:created>
  <dc:creator>Tzanev-Home</dc:creator>
  <dc:description/>
  <dc:language>en-US</dc:language>
  <cp:lastModifiedBy>Tzanev-Home</cp:lastModifiedBy>
  <dcterms:modified xsi:type="dcterms:W3CDTF">2015-11-08T19:54:12Z</dcterms:modified>
  <cp:revision>6</cp:revision>
  <dc:subject/>
  <dc:title>Slide 1</dc:title>
</cp:coreProperties>
</file>