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0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11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12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bg-BG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719C215-FAD8-402F-8295-2E1F40A771C5}" type="slidenum">
              <a:rPr b="0" lang="bg-BG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A4E0D43-209B-48A7-91F4-1B523244B526}" type="slidenum">
              <a:rPr b="0" lang="bg-BG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8196-5847-46CA-A04E-199DB6373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F6A8-5CDE-4AAC-9BC5-020E9EEDB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B281-34DB-4368-8581-C8830523C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E604-FD28-4445-B870-180EC8C17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2C8C8-A826-4B8B-A3D3-3BD6B2D39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EB399-AA97-4904-ACED-E726B047C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374D7-89B3-4DB1-9E29-201790ADC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30F5B-820D-4607-A923-5A3E7FFAE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8BF25-3D36-40BF-A826-3E034A63D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0C6AE-3413-449B-9646-F14A4A61F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30437-CAE6-448F-95BB-723DD7396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8903-7A85-4A82-8CB3-ACF5DFE60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44EF3-DE84-4770-BF1D-305BE4F50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DC901-A298-439E-BDB1-54D8FE571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67961-FEFF-4AA6-B79A-2628120B5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BCD1D-4906-4BBF-A051-EFA039638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27B9A-5189-44AA-AEC3-BF888F1FA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E2FCF-4AE9-4991-95ED-474A41FC9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5BAB0-80B8-4A67-9DE2-2C578D01C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F607D-D97B-4A70-B22B-2A914389B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3080C-FBA4-4E10-BA1A-F54FBB4D8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9B687-69D6-42EB-9B74-14B91D9D8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2FEE-17BD-4A5B-BEE2-E7BF9DA9C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C9F6C-AC0A-415E-8BC6-AEDB929B2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DC486-4E5E-4404-A7A4-831560F38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1B9A7-EA37-4F65-B439-FD42FA7CD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1032F-B5D2-4C60-940C-C627F24FB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05C11-72E4-49F7-8A53-EAEF89E25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DF78C-8F2A-44B5-8FCC-A87FC9669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F7EE8-14F1-41E6-A661-CF1493501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A863-8509-4886-B18C-B32A327B0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D8BC-648C-48A4-8720-8016BFAD7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0C9B-4ACF-4DD3-946B-EE4BACA6C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0073-4D73-43E6-BDCE-BA193CF9D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2B37-53EF-4B5B-A653-361D4FD02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25BB-58D2-4426-8E01-66BEE0834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33AD0-70A0-48CF-A6B2-4E644B8333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55548-3DAC-4E25-8060-CD6AFA3CC191}" type="slidenum">
              <a:rPr b="0" lang="bg-BG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675DF-A4D5-40A4-8E18-25926E10598B}" type="slidenum">
              <a:rPr b="0" lang="bg-BG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Line 5"/>
          <p:cNvSpPr/>
          <p:nvPr/>
        </p:nvSpPr>
        <p:spPr>
          <a:xfrm>
            <a:off x="1994040" y="1041480"/>
            <a:ext cx="508608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33" name="Object 6"/>
          <p:cNvGraphicFramePr/>
          <p:nvPr/>
        </p:nvGraphicFramePr>
        <p:xfrm>
          <a:off x="512640" y="372960"/>
          <a:ext cx="86040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2640" y="372960"/>
                    <a:ext cx="86040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Rectangle 7"/>
          <p:cNvSpPr/>
          <p:nvPr/>
        </p:nvSpPr>
        <p:spPr>
          <a:xfrm>
            <a:off x="7128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7128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0" y="316800"/>
            <a:ext cx="91440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EDICAL UNIVERSITY – PLEVEN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FACULTY OF MEDICIN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EVISION OF PHYSICS AND BIOPHYSICS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264960" y="1616040"/>
            <a:ext cx="196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 Black"/>
              </a:rPr>
              <a:t>Lecture</a:t>
            </a:r>
            <a:r>
              <a:rPr b="0" lang="bg-BG" sz="1800" spc="-1" strike="noStrike">
                <a:solidFill>
                  <a:srgbClr val="000099"/>
                </a:solidFill>
                <a:latin typeface="Arial Black"/>
              </a:rPr>
              <a:t> №10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WordArt 5"/>
          <p:cNvSpPr txBox="1"/>
          <p:nvPr/>
        </p:nvSpPr>
        <p:spPr>
          <a:xfrm>
            <a:off x="650880" y="2608200"/>
            <a:ext cx="8394840" cy="90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RANSPORT OF MATTER ACROSS CELL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0" name="WordArt 6"/>
          <p:cNvSpPr txBox="1"/>
          <p:nvPr/>
        </p:nvSpPr>
        <p:spPr>
          <a:xfrm>
            <a:off x="942840" y="4111560"/>
            <a:ext cx="7363080" cy="14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37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MEMBRANES - CLASSIFICATION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5316480" y="6135840"/>
            <a:ext cx="35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Prof. M. Alexandrova, DSc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8T12:58:53Z</dcterms:created>
  <dc:creator>Canev</dc:creator>
  <dc:description/>
  <dc:language>en-US</dc:language>
  <cp:lastModifiedBy>Tzanev-MU</cp:lastModifiedBy>
  <dcterms:modified xsi:type="dcterms:W3CDTF">2015-11-16T07:54:50Z</dcterms:modified>
  <cp:revision>464</cp:revision>
  <dc:subject/>
  <dc:title>Slide 1</dc:title>
</cp:coreProperties>
</file>