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4C0-93E3-4750-AD0E-377A268D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E8F8-EC91-4811-9A5E-9EFED3C5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C09-A477-4C32-8603-2D90F337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F9F-2C09-4192-B939-2F1D54A9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652-9297-4193-96B5-E40422FE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C9A-001B-4D80-A1A9-ECD8804B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74E-32F4-4AC0-804F-DDC0668C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591-E7B8-49FB-AB54-99202970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ADC-EA8E-4BF4-AC46-400F0D1E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3E5-293F-4761-800B-1390D1AF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A8E-8614-4C54-9D52-D18295E1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5D3-B437-43EA-B87A-FB8EC252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F161-DDA7-4D18-BD39-02B617B0E6F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6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apture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944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16000" y="192240"/>
            <a:ext cx="7834320" cy="129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6"/>
          <p:cNvGraphicFramePr/>
          <p:nvPr/>
        </p:nvGraphicFramePr>
        <p:xfrm>
          <a:off x="539640" y="247680"/>
          <a:ext cx="1069920" cy="109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47680"/>
                    <a:ext cx="10699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2340000" y="961920"/>
            <a:ext cx="5413320" cy="19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108000" y="1628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ecture </a:t>
            </a:r>
            <a:r>
              <a:rPr b="1" lang="bg-BG" sz="1800" spc="-1" strike="noStrike">
                <a:solidFill>
                  <a:srgbClr val="000000"/>
                </a:solidFill>
                <a:latin typeface="Arial Black"/>
              </a:rPr>
              <a:t>№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bg-BG" sz="18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6"/>
          <a:stretch/>
        </p:blipFill>
        <p:spPr>
          <a:xfrm>
            <a:off x="5424480" y="6319800"/>
            <a:ext cx="37195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20:06:21Z</dcterms:created>
  <dc:creator>Tzanev-Home</dc:creator>
  <dc:description/>
  <dc:language>en-US</dc:language>
  <cp:lastModifiedBy>Tzanev-Home</cp:lastModifiedBy>
  <dcterms:modified xsi:type="dcterms:W3CDTF">2015-11-08T20:16:20Z</dcterms:modified>
  <cp:revision>3</cp:revision>
  <dc:subject/>
  <dc:title>Slide 1</dc:title>
</cp:coreProperties>
</file>