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4F58-E16D-45D4-A676-72403AA372A3}" type="slidenum">
              <a:rPr b="0" lang="bg-BG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0959-2A47-415B-A801-4D3C74266C6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C914-C746-4A3C-855C-C898DB93C838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E14B-C101-46C3-BDB7-B9223295A3C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EEB4-AA89-4356-AB5A-5F0C09EAD033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6617-0DEC-4065-929E-0C51916C5A2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FB18-C492-4014-90A1-0094314923AA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1B0C-B16C-4B56-B0C5-2959B6A00624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9A04-2B3A-4645-8E7A-A73FC3A843BF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96E1-0EFA-43E9-A3A5-BD50329052CD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BFCE-CB88-4690-93E0-97EAB6D60F11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EB02-3896-47DA-8548-BC3FF0DCE8C7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0FFE-DD61-4B12-8C1F-E854835AFCC9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41714-92F2-4169-ADAA-BE616620457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D0F3-39BB-49B2-8C69-8C82D63C0FB6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2AA8-A146-4915-90AB-D03247725435}" type="slidenum">
              <a:rPr b="0" lang="bg-BG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5975-D35D-4008-B8DB-0CAC0E6A7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17D8-F89F-40C5-9A68-154ECE7A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9985-2538-4E79-AF1D-46189D73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B8CB-FAAA-46BE-B5A8-6D41ECFB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33EB-B956-4624-9847-AE6E688B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855F-53E0-4108-B742-933A595B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1BF79-7847-4F1A-BE32-8EBCD8AE4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FD94-AA3A-45AB-A712-C7A3621CC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7EBE-6DBC-4BC3-8A65-7B551AF5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F184-1D89-4A4E-9096-6587C76E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B68F-0680-420E-97E6-D1B3D954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0DBD-4CFA-4B9C-88D8-B367F518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ABD5-E01A-4DE3-80D8-865F7BF7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5BF7-E840-4BFA-8A84-B1597246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BAF0-8754-4D67-BB12-6991872D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1808-B6EA-432E-BDA6-CCF1E3D0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B326-8F5C-4C74-AF09-70683D643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10B-9311-4FCE-BF8D-2D8612E14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E6FA-7928-477C-8F0B-F86E46B8B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24C3-B3C8-489E-B6EB-B273F2DA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7A99-56F5-4652-A4D1-D409DCB9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C71D-BCF0-4C0E-9D01-CCB723F7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810-14D9-4585-9336-8EC2B066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C024-8876-4F7C-9A35-AA2A6975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C52D3-6FCC-4267-88D0-EB0498DCFCE7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8F3D-8A98-4F9F-A62F-2FC07691F48C}" type="slidenum">
              <a:rPr b="0" lang="bg-BG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8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Доц. д-р Надежда Хинкова, д.м.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Факултет “Здравни грижи”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000" spc="-1" strike="noStrike">
                <a:solidFill>
                  <a:srgbClr val="ffffff"/>
                </a:solidFill>
                <a:latin typeface="Arial"/>
              </a:rPr>
              <a:t>Медицински университет - Плевен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. Удължена брадикардия в края на втори период на раждането. Честотата на ДСТ спада до 90 – 40 уд/мин. Тази брадикардия често принуждава акушера да завърши раждането с форцеп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. Удължена брадикардия у преносени деца, съпътствана с намалена вариабилност е опасна брадикард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г. Удължена брадикардия, с късни и променливи децелерации, също е опасна брадикард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4. Намалена или липсваща вариабилнос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 някои случаи ДСТ имат нормална честота, но на запис липсва вариабилност – “плоска крива”. Тези записи са “зловещи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е винаги намалената вариабилност е израз на ФДС. Може да се дължи на медикация на майката или сънно състояние на пл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Микрокръвно изследване и рН–метр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Методът е въведен през 1962 г. от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ling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. Тази методика се използва като допълнение към електронното мониторира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ias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 сътрудници предлагат следното поведение при изследване на рН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Н над 7,25 </a:t>
            </a:r>
            <a:r>
              <a:rPr b="0" lang="bg-BG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наблюд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Н  7,25 – 7,20 </a:t>
            </a:r>
            <a:r>
              <a:rPr b="0" lang="bg-BG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повторение след 30 мину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Н под 7,20 </a:t>
            </a:r>
            <a:r>
              <a:rPr b="0" lang="bg-BG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незабавно цезарово сечени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рН от феталния скалп остава най-точният метод за диагноза на ФД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Мекониум в О.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ласификация на мекониума в О.Т.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. ранен мекониум – отделя се преди и през активната фаза. Бива: - рядък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 гъс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. късен мекониум – отделя се през ІІ период на раждането, липсва преди то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ФДС корелира с ранния гъст мекониум и късния мекониу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За отделянето на мекониум в О.Т. има две хипотез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оред едната, феталната хипоксия предизвиква исхемия на червата, стимулира перисталтиката и релаксира аналния сфинкте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поред втората хипотеза, отделянето на мекониум в О.Т. е израз на зрелост на пл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Има три нива на диагностициране на острия ФДС: съмнителен, вероятен и сигур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І. Съмнителен. Установява се при фетална тахикардия. Може да има слабо изразени променливи децел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ІІ. Вероятен – фетална тахикардия, липса на вариабилност, засилващи се по тежест променливи децелер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ІІІ. Сигур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. тахи- или брадикардия, липса на вариабилност, късни децелер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. тежки променливи децелерации плюс късни децелер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Поведение.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иктува се от причините, тежестта и редица други фактор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. Поставяне на раждащата в ляво странично положение. 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опълнително може да се включи венозна инфузия на кристалоидни разтвори, плазма. Така се преодолява хипотензията на майката и се повишава кръвотокът в интервилозното пространств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 Токолиза с бета-миметици. Показана е при хиперактивна маточна дейност, която намалява утеро-плацентарния кръвот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3. Кислородотерапия – 6-7 л/мин, с маска или назален катетър. Повишава транспорта на кислород към пл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4. Алкални лекарства – натриев бикарбонат. Има значение само при ацидозно състояние на майк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5. Хипертонична глюкоза – когато майката се намира в хипогликем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ко медикаментозното лечение не дава желания резултат, акушерското поведение изисква бързо завършване на раждането, съобразно акушерската ситуация – Цезарово сечение, форцепс, вакуум-екстракция, с цел спасяване живота на пл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Феталният дистрес-синдром може да се определи като състояние, което заплашва здравето и живота на плода в резултат на настъпили промени в газообмена и метаболизма (хипоксия и ацидоза), което засяга функциите на жизнено- важни орга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Терминолог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. Най-старото название на синдрома е асфиксия, което буквално означава липса на пулс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. Фетална хипокс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3 Депресивно състояние на пл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4. В новата англоезична литература най-често се среща фетален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tres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-синдром (англ. – нещастие, бедствие, страдание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ФДС може да има различни причини, различна продължителност, тежест, може да бъде остър или хрониче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Патофизиолог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вечето фактори, причиняващи ФДС, разстройват феталната газова обмяна и регулацията на р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Обмяна на СО2: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Ако се блокира изнасянето на СО2, нараства парциалното му налягане, повишава се концентрацията на водородните катиони и рН спада. Настъпва респираторна ацидоза. Това може да стане при компресия на пъпната връв или астматичен пристъп у майк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 u="sng">
                <a:solidFill>
                  <a:srgbClr val="ffffff"/>
                </a:solidFill>
                <a:uFillTx/>
                <a:latin typeface="Arial"/>
              </a:rPr>
              <a:t>Обмяна на О2: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Ако намалее подвозът на кислород, не може да се извърши аеробна гликолиза. Включва се анаеробен метаболизъм, с изчерпване на АТФ и натрупване на лактати. Възниква метаболитна ацидо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одвозът на кислород може да намалее рязко (при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ruptio placenta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) или хронично (при прееклампсия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ай-често ацидозата е смесена – метаболитна и респиратор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Различават се два вида ФД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. Хроничен – развива се бавно през последните месеци на бременността, при диабет, прееклампсия, преносена бременност и други състояния, които създават плацентарна инсуфициенция и намалена плацентарна перфуз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Клинично хроничната асфиксия резултира в интраутеринна ретардация на пл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. Остър – развива се бързо и най-често през време на раждането. Маточните контракции намаляват кислорода за плода и подлагат на изпитание резервните му механиз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Етиолог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ias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 и сътрудници предлагат следната схема на ФДС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. Хронично увреждане на фето-материнската обмя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. Причини от страна на майка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. прееклампс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. диаб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с. хронична хиперто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. сърдечни болести ІІІ и ІV клас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е. хемоглобинопат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. Причини от страна на плод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. хемолитична болес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. интраутериннен трансфузионнен синдром при близнац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. недоносенос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11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3. Плацентарни причи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. анатомични промени в плацентата (циркумвалатна плацента, ципесто прикрепване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. преносенос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. първична плацентарна недостатъчнос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. Липса на данни за хронично увреждане на фето-материнската обмя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. Ятрогенни причин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. окситоцинова хиперстимулац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. регионална анестез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. хипотензивни лекар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. Остри случа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ruptio placentae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. пъпна връв – притискане, пролапс, истински въз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Диагно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Диагнозата се поставя въз основа н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. Наличие на един или повече от следните симптоми при електронно мониториране на плод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. персистиращи късни децелер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б. персистиращи тежки променливи децелераци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. продължителна брадикард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г. намалена или липсваща вариабилнос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. Наличие на патологично рН от феталния скалп (диагнозата става сигур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3. Наличие на гъст мекониум в О.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99"/>
                </a:solidFill>
                <a:latin typeface="Arial"/>
              </a:rPr>
              <a:t>Електронно мониториране на плода. Кардиотокограф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1. Късни децелерации. Наличието на повтарящи се късни децелерации традиционно се приема за признак на ФДС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Но те могат да се дължат на окситоцинова хиперстимулация, на епидурална анестез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В заключение: късните децелерации са важен признак за ФДС, но наличието им не изисква задължително спешна хирургична интервенция. Те трябва да се интерпретират в рамките на цялостната ситуация и данните от р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2. Тежки променливи децелерации. Явяват се при компресия на пъпната връв. Ако те се установят, трябва де се изключи пролапс или предлежание на пъпната връв чрез вагинално изследва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400" spc="-1" strike="noStrike">
                <a:solidFill>
                  <a:srgbClr val="ffffff"/>
                </a:solidFill>
                <a:latin typeface="Arial"/>
              </a:rPr>
              <a:t>Фетален дистрес-синдром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ко такива липсват, да се обърне жената на противоположната страна с надеждата да се отстрани натискът върху пъпната връв, да се назначи токолитична терапия и да се изследва рН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При неизчезващи след токолитично лечение тежки децелерации и ниско рН, да се завърши раждането с форцепс (ако има условия за налагане) или Цезарово сече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3. Фетална брадикардия. Не всички видове фетална брадикардия са еднакво показателни по отношение състоянието на плод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bg-BG" sz="2000" spc="-1" strike="noStrike">
                <a:solidFill>
                  <a:srgbClr val="ffffff"/>
                </a:solidFill>
                <a:latin typeface="Arial"/>
              </a:rPr>
              <a:t>а. Основна брадикардия – под 120 уд/мин. Тя е налице от началото на раждането, с адекватна вариабилност, не винаги изразява асфикс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8T22:50:57Z</dcterms:created>
  <dc:creator>pc</dc:creator>
  <dc:description/>
  <dc:language>en-US</dc:language>
  <cp:lastModifiedBy>LENOVO</cp:lastModifiedBy>
  <dcterms:modified xsi:type="dcterms:W3CDTF">2020-03-20T13:41:29Z</dcterms:modified>
  <cp:revision>27</cp:revision>
  <dc:subject/>
  <dc:title>Фетален дистрес-синдром</dc:title>
</cp:coreProperties>
</file>