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0433-D7B2-4053-B183-04B87FE3792F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4ADC-D03C-4570-84B5-801D00EC6D6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8B0-50FB-4996-AC0F-2CC0C212F09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AA7-B374-4197-9858-0B7893502F9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5807-4578-4B82-9420-5FF1F5FC897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25E-87FA-4D80-B14C-5D6A673B194E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B0007-7255-4E94-803F-AFA6F1D1D8CC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348-33AC-448B-B349-6EC011D629D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C69E-790D-4171-A732-142D7B83DB8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1C63B-B3D1-4E2E-8ECF-00A1D254EB0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1BD-846F-47F3-8448-951C9C3145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CD75-1CF0-48C8-95F8-9E512FB1506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0BCC0-DBB5-486E-BCE0-BFDB91F23EE2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FE59-A2B6-4845-BBFB-42A19B2C241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18CD5-F6B3-4D91-AF6C-FC86975DBD9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633-259E-4915-A64E-FA11820837F0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62CA-1907-4904-BE54-CDB014B43AB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9F90-D714-4460-B692-DD77AF1AE4E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55C-1F1D-463F-92DC-385F34C54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C313-CD19-4AEA-9F24-B6C7C413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E103-9F04-4ACE-B07E-26E5D70E5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0420-902E-44C9-B85E-43336DD1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A9D7-BE38-425A-80DF-66E99CA4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A4AF-23C4-4494-BE9B-1350962DC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3B8B-A46B-450A-8ADF-CBF8DDD3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BF908-ABE7-47E8-8EE6-8E8555DEC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FB7D-BC1D-4863-A7E1-88EAFA89D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A19B-18B6-49BC-A099-704909C9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C730-D28C-4ABC-9205-100D17FE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EEBC-23B8-4006-860C-02A146F3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1A8E-209E-4704-B8BD-6582C609F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16A9-C78D-4AFA-9D5B-85CB66CE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E1A7-BF68-48AF-AC03-1A5AF6F8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7C15-5FB7-4486-B4B1-94E43356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968A3-407F-4919-944F-6AEBFCEE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E92-4978-4615-973E-9F18D952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BF95-D213-4B1D-9382-A08B3985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6AA5-3A74-4A49-87DE-7FD10BF1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1707-F68F-4127-91D1-ED3F148D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C8BD-A795-4BC9-943A-30FF3204A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756-D354-4298-8ED9-97B0D095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1957-81A6-48C3-9166-5818B3AD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0265-071E-44F0-8A09-44A3662C6E2D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2C682-AD66-4E2B-A840-91E437AEBD1F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Механична дистокия. </a:t>
            </a:r>
            <a:br>
              <a:rPr sz="4800"/>
            </a:b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ц. д-р Надежда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Хинкова , д.м.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Факултет “Здравни грижи”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Медицински университет - Плев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не се ангажира в края на бременността, което не е характерно за първораждащи. По-чести са неправилните главични предлежания, косо и напречно положе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б) Стеснение на средната плоскост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ази плоскост се ограничава отпред от долният ръб на симфизата, отстрани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inae ossis ischi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отзад е на границата между четвърти и пети сакрални прешлени. За стеснение на тази плоскост се говори когато напречният диаметър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ea interspin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е под 10,5 см, а правият диаметър е под 11,5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тесненията в средната плоскост на таза са по-чести от тези на входа. Най-често главата се задържа в напречния диаметъ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в) Стеснение на изхода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лоскостта на изхода на таза се състои от два триъгълни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едният триъгълник е с основа интертуберозния диаметър и с връх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дният триъгълник е със същата основа и с връх границата между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s sacrum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 coccyg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 стеснение на изхода на таза се говори когато интертуберозният диаметър е под 8 см и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тес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се изтласква към задният триъгълник, разпъва силно перинеума с обширни разсъсвания на перинеу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V. Функционално тес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е таз при който се установява несъответствие между таза и плода, независимо от големината и формата на таз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таз и едър плод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таз и дефлексионни предлежа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по големина плод и гранично намалени размер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при нормален по големина плод и промяна на формата на таз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ака функционално тесният таз се базира на съотношението на три важни променливи величини – таз, плод и маточна активн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огато тези величини са в съотношение, че плодът не може да се роди неувреден през родилните пътища, се говори да 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елви-фетална диспропорция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Диагнозата се поставя в хода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Диагноза на тесните тазов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гнозата започва с анамнезата и оглед на конструкцията на тялото на бременн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От анамнезата може да се ориентираме за тежък рахит в млада възраст, вродена луксация, прекарани травми на костит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иските жени, с ръст под 155 см, в голяма част имат и тесни тазове. Наличие на кифоза, сколиоза, нарушена походка, промени в ромба на Михаелис, промени в наклона на таза обикновено са свързани с известни изменения във формата и размерите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анните за тежко оперативно вагинално раждане или травми на плода изискват внимателно изследване размерите и форма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ъншната пелвиметрия е ориентировъчна и не може да прогнозира изхода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Чрез трети и четвърти прийом на Леополд се установява високо стояща глава в края на бременността. Този белег има голяма прогностична стойност за наличие на тесен таз при първеск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вагинален преглед може да се изме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gon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от която като извадим 1,5 см получавам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За стеснение на 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е предполага когато под него не могат да се поставят два напречни пръста. Недостигането на промонториума със средният пръст с голяма вероятност говори за липса на стеснение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агиналното изследване може да установи още: проминиране на спините, конкавитета на сакрума, посоката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c coccyg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конвергенцията на страничните стен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стеснение на интертуберозният диаметър се насочв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, когато ръката свита в юмрук не може да се постави между дват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ubera ossis ischii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ентгеновата пелвиметрия дава иформация за вътрешните размери на таза. Извършва се само ако бременната даде съгласие за това. При плод в седалищно предлежание има безспорно утвърдено мяс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Ултразвуковият метод не е в състояние да даде данни за размерите на костния таз. Този метод дава ценна информация за размерите на плода и в частност за размерите на черепа. При БПД над 100 мм и особено при преносване е оправдана рентгенова пелвиметрия за установяване на съвместимост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Клинична преценка на съвместимост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Цангемайсте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С тазомер се измерва по обичайният начи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Без да се мести задното рамо на тазомера, предното му рамо се поставя върху най-изпъкналата точка на главата в областта над симфиз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това разстояние е по-малко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rn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 по-вероятно е да има съвместимост между размера на таза и този на глав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Уатстон – Хенкел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и гръбно положение на бременната едната ръка на извършващият изследването се поставя над симфизата, а другата върху главата на плода. Възможни са следните положения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симфизата стои по-високо от тази на главата, главата би могла да навлезе в малкия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симфизата и на главата са на една равнина, има известна степен на несъвместим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ако плоскостта на главата е по-високо от тази на симфизата – прийомът на Уатстон – Хенкел е положителен и сочи, че е налице несъответствие между таза и главата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Прийом на Мюлер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дин асистент притиска с две ръце главата на плода по посока към входа на таза. Чрез вагинално изследване се преценява доколко натискът върху главата повлиява спускането й в кухината на малкия таз. Най добре е прийомът да се приложи при пълно разширение на маточната ший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ротичане на ражданет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 време на раждането при вагинален преглед най-често се установява пукнат околоплоден мехур и шийка, неприлягаща добре към предлежащата глава. Маточната шийка се разширява бавно, раждането е удължено, често с вторична родилна слабост. Главата на плода е конфигурирана, образува се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ut succedaneum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Установяването на асинклетизъм и изразена конфигурация, при неангажирана глава е ясен белег за неблагоприятно вагинално ражд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Секуларни промени в таза на женат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В исторически аспект женският таз увеличава размерите си, респ. процентът на жените с малки размери на таза намаля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Друга особеност на секуларните промени е увеличаване на граничните състояния – между нормални и намалени разм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Третата изява на тенденцията се отнася до формите на таза. В миналото най-чести са били общо стеснените тазове. През последните десетилетия най-честата форма на тесните тазове е напречно-стесненият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Друга особеност е т. нар функционално тесен таз – несъответствие между таз и плод, независимо от големината и форма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Анатомично тес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bg-BG" sz="2400" spc="-1" strike="noStrike">
                <a:solidFill>
                  <a:srgbClr val="ffff99"/>
                </a:solidFill>
                <a:latin typeface="Arial"/>
              </a:rPr>
              <a:t>Определение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аз при който един или повече от вътрешните му размери е с повече от 1 см по-малък от нормалните размер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Класификация на тесните тазов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литературата съществуват няколко класифик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. В зависимост от дължината на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ма четири степени на тесен та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9 до 11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7,5 до 9 см. Приема се, че при такъв размер на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ждането на жив плод е възможно, само ако последният е с много малки размери (недоносен плод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І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,5 до 7,5 см. При такива размери на таза раждането на жив плод не е възможно. Плодораздробяваща операция е свързана с големи травми на мекия родилен кана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V степен 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 с размери по-малки от 5,5 см. Преминаването на доносен плод през костния таз е невъзможно, дори и след плодораздробяваща операц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съвременните изисквания на акушерската практика ІІІ и ІV степен стеснение на таза е абсолютна индикация за цезарово се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І степен е възможен опит за вагинално раждане при условие, че няма макрозомия. П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jugata vera obstetrica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од 9 см за предпочитане е елективно Цезарово сечени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І. Доскоро, широко разпространена в нашата литература, е следната класификац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Общо равномерн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Плосък таз (таз, стеснен в правия размер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) обикновен плосък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) плосък рахитичен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) общо-стеснен плосък таз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Кос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Напречно-стесн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. Спондилолистетич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6 Остеомалатичен таз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7. Фуниеобразен таз (мъжки таз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8. Таз, с тумори и екзостоз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ІІ. Широко употребявана е класификацията на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aldwell 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oloy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(1933), която е базирана основно върху конфигурацията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тази класификация се различават следните видове таз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а) Гинекоиден (женс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Той е най-често срещан – 50%. Формата на входа на таза е овална с малко по-голям напречен от прав диаметър. Страничните стени на таза са успоредни. Спините не проминират към празнинат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широк – 90 градуса. Обемът на таза е нормал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Това е най-благоприятната форма на таз за вагинално раждане. Раждането обикновено протича нормалн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б) Андроиден (мъж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20%. Формата на входа на таза е сърцевидна. Намалена е задната половина на повърхността на входа на таза, предната е тясна и с триъгълна форма. Страничните стени на таза конвергират, спините са масивни и проминират към кухинат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тесен. Сакрумът е плосък, а долната му част е издадена напред. Скъсени са всички размери на празнината на таза, което намалява и обема м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илно изразеният андроиден таз е много труден за вагинално раждане и се предпочита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слабо изразен андроиден таз раждането спира, когато главата е навлязла дълбоко в таза. И двата пътя за родоразрешение – вагинален и абдоминален се явяват травматични за майката и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в) Антропоиден (маймунски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25%. Входът на таза е надлъжно-овален, като правият диаметър е по-голям от напречния. Тазовите стени имат паралелен ход и не стесняват празнината и изхода на таз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или нормален или леко стеснен. Обемът на таза е нормал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нормален по размер плод е възможно атравматично вагинално раждане, като главата навлиза в правия диаметър и така достига до изхода на таза. По-чести са задно тилно предлежание и оперативните вагинални ражд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г) Платипелоиден (плосък) таз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Честотата му е 5%. Формата на входа на таза е напречно-овална с увеличен напречен и скъсен прав диаметър на входа на таза. Всички прави диаметри на таза са намалени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cus pub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е широк. Този таз е най-плитъ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Тесен таз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лавата навлиза съ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tura sagit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в напречния диаметър и така се движи до разширението на таза. Поради скъсените прави диаметри главата се ражда със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tura sagitali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леко отклонена от правия диаметър на изхода на таза. Често главата е в асинклитично положение и раждането завършва с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ІV. Напоследък добива широко разпространение класификацията на тесните тазове, базирана на стеснения в различните плоскости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азличават се три основни плоскости на таза – на входа, средна плоскост и на изхода. Средната плоскост отговаря на употребяваната у нас плоскост на стеснението на т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а) Стеснение на входа на таза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равия диаметър е под 11 см и напречния акушерски диаметър под 12 с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2:27:27Z</dcterms:created>
  <dc:creator>Guest</dc:creator>
  <dc:description/>
  <dc:language>en-US</dc:language>
  <cp:lastModifiedBy>LENOVO</cp:lastModifiedBy>
  <dcterms:modified xsi:type="dcterms:W3CDTF">2020-03-20T13:32:35Z</dcterms:modified>
  <cp:revision>40</cp:revision>
  <dc:subject/>
  <dc:title>Механична дистокия.  Тесен таз</dc:title>
</cp:coreProperties>
</file>