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bg-BG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64715B3-1471-4DED-8D8F-22F06A1F7871}" type="slidenum">
              <a:rPr b="0" lang="bg-BG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75A7683-8347-4F55-B43C-BEE4B14EF900}" type="slidenum">
              <a:rPr b="0" lang="bg-BG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98C1-D58D-4555-B593-8217BD35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66BD-AB42-4F15-BBF3-5302782D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FBBD-0B2F-467B-85F7-D7E3E64EA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88D9-19D6-4B4B-A73C-BDCC1274C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C437-2CBE-4E91-A254-BEBE73AE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3E0F-9429-4922-9F89-93174E21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DB7F-57EB-4EEF-AFFC-7E285709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8945-CF63-4609-AA97-DBDD8CCA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ADF6-2A23-48F7-9221-8D03C915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D496-BEC0-42DB-BB97-1031934D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89BB-BCDE-4F2F-91C2-38D9E14F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DB46-EA9E-4320-8B2A-167FACF8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B214-96ED-487E-9701-9A08662D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372C-8EA2-4AA0-8035-9E33CEE4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E894-5BA7-4C03-A938-53FD3171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8155-231E-445B-8BD8-2C0E0F2F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C3C0-D218-4D4F-8545-52CBB6B87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B3BE3-14B3-43FE-9E85-77C00444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DCF2E-2FD5-46DB-BC10-0AA35046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7874B-6D94-440B-BE52-21075119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CB56A-F353-44CD-BDF3-AEB4111D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0F559-5ED9-48E7-B65D-3DBD97C7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AF9E-20DC-4515-AB49-97C6E689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6B4D4-E422-4137-819F-75C214BB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30B58-383C-445E-93FE-9D787451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037EB-2BC7-4A2D-B292-C31615B9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4E24F-CEEA-4005-BDD9-65C96542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04594-D6F6-4D3C-8001-BB194014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8DE8A-4683-49A2-9CD6-872D221AD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28860-2ED9-41DD-9B8A-601B1A5B5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D5B6-9BFF-4B27-AEED-BED14041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6E02-41FB-461E-92B8-17837EB3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C88B-7261-4DC5-B623-C1C6D4BE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75A3-8E25-4BBC-AF88-17678936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5784-9800-4EDA-871C-7ED47E8A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D2D2-6B37-4B17-982B-1B9D8BE7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FF18-2906-4AD9-8EBF-501F130DB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1D55-980A-4901-A041-1130569C8DD5}" type="slidenum">
              <a:rPr b="0" lang="bg-BG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4DB0-74AA-4E9F-8D46-1B3C325AA287}" type="slidenum">
              <a:rPr b="0" lang="bg-BG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5"/>
          <p:cNvSpPr/>
          <p:nvPr/>
        </p:nvSpPr>
        <p:spPr>
          <a:xfrm>
            <a:off x="2581200" y="901800"/>
            <a:ext cx="48132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3" name="Object 6"/>
          <p:cNvGraphicFramePr/>
          <p:nvPr/>
        </p:nvGraphicFramePr>
        <p:xfrm>
          <a:off x="527040" y="351000"/>
          <a:ext cx="862200" cy="88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351000"/>
                    <a:ext cx="862200" cy="88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7"/>
          <p:cNvSpPr/>
          <p:nvPr/>
        </p:nvSpPr>
        <p:spPr>
          <a:xfrm>
            <a:off x="7128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7128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0" y="156960"/>
            <a:ext cx="9144000" cy="13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ЕДИЦИНСКИ УНИВЕРСИТЕТ </a:t>
            </a:r>
            <a:r>
              <a:rPr b="1" lang="bg-BG" sz="24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–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ПЛЕВЕН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ФАКУЛТЕТ „ОБЩЕСТВЕНО ЗДРАВЕ“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bg-BG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ЦЕНТЪР ЗА ДИСТАНЦИОННО ОБУЧЕНИЕ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64960" y="161604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73"/>
                </a:solidFill>
                <a:latin typeface="Arial Black"/>
              </a:rPr>
              <a:t>Лекция №1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433440" y="2540160"/>
            <a:ext cx="839448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ФОРМАЦИОННИ ТЕХНОЛОГИИ В МЕДИЦИНАТ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WordArt 6"/>
          <p:cNvSpPr txBox="1"/>
          <p:nvPr/>
        </p:nvSpPr>
        <p:spPr>
          <a:xfrm>
            <a:off x="1082520" y="3728880"/>
            <a:ext cx="7363080" cy="166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средства за обработка на информаци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716360" y="605808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73"/>
                </a:solidFill>
                <a:latin typeface="Arial Black"/>
              </a:rPr>
              <a:t>Доц. Инж. Георги Цанев, д.т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8T12:58:53Z</dcterms:created>
  <dc:creator>Canev</dc:creator>
  <dc:description/>
  <dc:language>en-US</dc:language>
  <cp:lastModifiedBy>Georgi_Tzanev</cp:lastModifiedBy>
  <dcterms:modified xsi:type="dcterms:W3CDTF">2017-02-06T07:05:36Z</dcterms:modified>
  <cp:revision>463</cp:revision>
  <dc:subject/>
  <dc:title>Slide 1</dc:title>
</cp:coreProperties>
</file>