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D30-5C1B-4CC0-A38F-6A4E88D8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4EC-4F12-4A04-B6C2-88C7566F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8CB-CE6F-4EF1-AC02-53EA855D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FD2-33E8-4B72-B55C-12962165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BDA-2AFA-45A2-BCA7-9A036419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B17-35A5-42D8-903E-2F4F062D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8FA-60A8-472F-BE41-B81628E7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9A4-7AFB-4E3A-A032-ACE5F8AA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58F-E73E-41C6-97A3-F0E87936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1F3-F12C-48CF-BDD9-944D92FE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F52-05F3-413A-9831-700AE26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9B3-070C-45DE-965C-653941B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0E95-1D4D-4006-8495-EF266DC7B81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ЕРУМНИ АНТИ-ЕЛАСТИНОВИ АНТИТEЛА ПРЕДИ И СЛЕД ТЕРАПИЯ С ИНТРАВЕНОЗЕН ГАМА-ГЛОБУЛИН ПРИ ЖЕНИ С ПОВТАРЯЩИ СЕ СПОНТАННИ АБО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3573000"/>
            <a:ext cx="6769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М. Атанасова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Е. Конова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К. Тодорова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А. Емин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. Стефанов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Р. Русев</a:t>
            </a:r>
            <a:r>
              <a:rPr b="0" lang="bg-BG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Сектор „Биология”, Медицински Университет – Пле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Център за репродуктивно здраве, Медицинс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Университет – Пле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СБАЛАГ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йчин дом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”, Соф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езулта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5373360"/>
            <a:ext cx="86407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нти-α-еластинови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нтитела от кла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отчетени при положителен тест за бременност не се отличаваха значимо от тези в серумите на не-бременните жени, но бяха значимо понижен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5-30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ни след първата инфузия на гама-глобули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0.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92360" y="1052640"/>
          <a:ext cx="594036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52640"/>
                    <a:ext cx="59403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вахме значим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вишение на анти-α-еластиновите антитела от кла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 серумите на жени със СПА. Предполагаме, че това повишение е част от патогенезата на загубите на пл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ното намаление на нивата им след интравенозна гама-глобулинова терапия вероятно се дължи н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личието 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-идиотипни антитела срещу анти-еластиновите антитела в прилаганите гама-глобулинови препар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Konova E, et al. Idiotypic and anti-idiotypic elastin autoantibod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plications for IVIg and pregnancy loss. J Autoimmun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-идиотипните антитела обуславят един от механизмите на които се дължи позитивният ефект на интравенозния гама-глобулин при пациентите със СП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ъ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ва фундаментални подхода за терапевтична употреба на интравенозните имуноглобулини (IV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местителна терап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при първични или вторични хуморални имунни дефицит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уномодулиране (при автоимунни заболя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уномодулиращите ефекти на IVIg се базират на следните механиз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нти-идиотипни взаимодей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локиране на Fc рецеп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фект на цитокиновата мреж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величен катаболизъм на I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ъ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нти-идиотипната активност на IVIg се изразява в бърза неутрализация на автоантите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съствието на анти-идиотипи срещу автоантитела в IVIg продуктите се потвърждава от инхибиращия ефект на IVIg, доказан за анти-фосфолипидни и анти-тиреоидни 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IVIg терапията се използва успешно за лечение на спонтанни аборти, асоциирани с анти-фосфолипидни антител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вишени нива на циркулиращи NK и ембриотоксини, повишена NK активност, както и повтарящи се спонтанни аборти с неизяснена ет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ъ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ластинът е един от най-хидрофобните и неразтворими белтъци в човешкото тя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ключително устойчив, с бавен метаболизъ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жен структурен компонент, изграждащ тъкани като артериална стена, кожа и бели дроб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втоантитела срещу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еластин (продукт на разграждането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тропоеластин (еластинов предшественик) са установени при здрави х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зи физиологични автоантитела се считат за част от хомеостазният механизъм за елиминиране на променените еластинови структури, посредством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in situ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разграждане или чрез опсонизация на продуктите на деград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ъ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начително повишение на патологичните анти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-еластинови антитела е установено 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ациенти с автоимунни заболявания и се предполага участието им в патогенезата на автоимунните про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Увеличени серумни нива на анти-еластинови автоантитела от кла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gM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установихме при пациенти с повтарящи се спонтанни абор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равнени със здрави небременни ж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ti-elastin antibodies and elastin turnover in normal pregnancy and RPL. Konova et al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JRI,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009,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67-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Цел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роследяване на серумните нива на анти-α-еластинови антитела при бременни жени, с предшестващи бременността спонтанни аборти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реди и след терапия с интра-венозен гама-глобул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атери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циенти: 2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бременни ж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ритерии за подбор на пациен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намнеза з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ли повече спонтанни аборта (СП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еди установяване на сърдечна дей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-фосфолипидни антител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/ил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GP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-тиреоидни 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онтролна група: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драви не-бременни жени с една или повече успешни брем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вата на 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ластиновите антитела от кл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M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яха измерена с индирект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-made ELIS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и забременя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зитивен тест за бремен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-30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ни след първото влива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интравенозен гама-глобулин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ovenin intac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5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улБ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ълга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езултатите бяха обработени статистически с анализ на вариациит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VA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и по метода на най-малките значими разлики (LSD) съ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S, v.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езулт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507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не-бременните жени с предшестващи СПА нивата на анти-α-еластиновите антитела от кла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бяха значимо повишени в сравнение с групата на здравите не-бременни ж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ти-α-еластиновите антитела от кла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M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се отличаваха статистически  при не-бременните пациенти и контро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19280" y="1052640"/>
          <a:ext cx="5689440" cy="36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52640"/>
                    <a:ext cx="568944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31:12Z</dcterms:created>
  <dc:creator>User</dc:creator>
  <dc:description/>
  <dc:language>en-US</dc:language>
  <cp:lastModifiedBy>User</cp:lastModifiedBy>
  <dcterms:modified xsi:type="dcterms:W3CDTF">2011-06-09T07:25:39Z</dcterms:modified>
  <cp:revision>26</cp:revision>
  <dc:subject/>
  <dc:title>СЕРУМНИ АНТИ-ЕЛАСТИНОВИ АНТИТEЛА ПРЕДИ И СЛЕД ТЕРАПИЯ С ИНТРАВЕНОЗЕН ГАМА-ГЛОБУЛИН ПРИ ЖЕНИ С ПОВТАРЯЩИ СЕ СПОНТАННИ АБОРТИ</dc:title>
</cp:coreProperties>
</file>