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CCC08-84FC-4922-B3D9-0298A4F91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96FBF-3AF3-4A82-ABEF-402EB4192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9DDC7-B404-42CA-B7AF-8955269EA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DD27E-0F2A-42DB-A2CD-B15881B43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D5AC2-4206-4BC3-A440-7B6118BD3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23D24-795E-4794-9F9D-52C668C97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D9065-0EB8-401F-ABD5-586549003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A3F62-7F26-4750-9E3C-B4879AA1A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8A9C5-2A6F-4375-B8FE-7E9E38B93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0D5B4-1982-4E51-9585-3A85A6B71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CADB3-B9A1-4393-AC54-B68C63A80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984C9-94B1-44C1-B0EB-D770EEC3F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52110-F41F-4630-A41C-09FD06BB7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D2DB5-EF70-41B5-BA46-319217D7C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82C53-45D7-41DB-901E-802C0BA5D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BF00B-F694-47DA-9106-778EB44E9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18A07-68CA-465A-A107-994BBFA68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2B024-97F8-4DFA-99ED-DF6772740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9E44F-9104-454E-BD94-32CEED2E9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49706-B315-4521-BBD6-52B939775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9804C-C659-4FE2-9707-32113A4B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142C7-6583-4556-A612-A0FDAE768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2FD88-BEFA-4A59-94EF-ABDEC0C99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A8184-C502-461A-831C-3AB7124EE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9251-0575-4096-A02D-D0D4E4EE950D}" type="slidenum">
              <a:rPr b="0" lang="bg-BG"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1C2E-42FD-44D1-825D-9610E45CDC50}" type="slidenum">
              <a:rPr b="0" lang="bg-BG"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000" y="333000"/>
            <a:ext cx="7918200" cy="297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Immunological aspects of elastin turnover in senescence-prone and senescence-resistant mouse strains</a:t>
            </a:r>
            <a:endParaRPr b="0" lang="en-US" sz="4000" spc="-1" strike="noStrike">
              <a:solidFill>
                <a:srgbClr val="b7e7ff"/>
              </a:solidFill>
              <a:latin typeface="Arial"/>
            </a:endParaRPr>
          </a:p>
        </p:txBody>
      </p:sp>
      <p:sp>
        <p:nvSpPr>
          <p:cNvPr id="83" name="PlaceHolder 2"/>
          <p:cNvSpPr>
            <a:spLocks noGrp="1"/>
          </p:cNvSpPr>
          <p:nvPr>
            <p:ph type="subTitle"/>
          </p:nvPr>
        </p:nvSpPr>
        <p:spPr>
          <a:xfrm>
            <a:off x="826920" y="3885840"/>
            <a:ext cx="7345440" cy="2422440"/>
          </a:xfrm>
          <a:prstGeom prst="rect">
            <a:avLst/>
          </a:prstGeom>
          <a:noFill/>
          <a:ln w="0">
            <a:noFill/>
          </a:ln>
        </p:spPr>
        <p:txBody>
          <a:bodyPr lIns="90000" rIns="90000" tIns="46800" bIns="46800" anchor="t">
            <a:noAutofit/>
          </a:bodyPr>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neliya Dimitrova</a:t>
            </a:r>
            <a:r>
              <a:rPr b="0" i="1" lang="en-US" sz="2000" spc="-1" strike="noStrike" baseline="30000">
                <a:solidFill>
                  <a:srgbClr val="ffffff"/>
                </a:solidFill>
                <a:latin typeface="Arial"/>
              </a:rPr>
              <a:t>1</a:t>
            </a:r>
            <a:r>
              <a:rPr b="0" i="1" lang="en-US" sz="2000" spc="-1" strike="noStrike">
                <a:solidFill>
                  <a:srgbClr val="ffffff"/>
                </a:solidFill>
                <a:latin typeface="Arial"/>
              </a:rPr>
              <a:t>, </a:t>
            </a:r>
            <a:r>
              <a:rPr b="0" i="1" lang="en-US" sz="2000" spc="-1" strike="noStrike" u="sng">
                <a:solidFill>
                  <a:srgbClr val="ffffff"/>
                </a:solidFill>
                <a:uFillTx/>
                <a:latin typeface="Arial"/>
              </a:rPr>
              <a:t>Miglena Georgieva</a:t>
            </a:r>
            <a:r>
              <a:rPr b="0" i="1" lang="en-US" sz="2000" spc="-1" strike="noStrike" u="sng" baseline="30000">
                <a:solidFill>
                  <a:srgbClr val="ffffff"/>
                </a:solidFill>
                <a:uFillTx/>
                <a:latin typeface="Arial"/>
              </a:rPr>
              <a:t>2</a:t>
            </a:r>
            <a:r>
              <a:rPr b="0" i="1" lang="en-US" sz="2000" spc="-1" strike="noStrike" u="sng">
                <a:solidFill>
                  <a:srgbClr val="ffffff"/>
                </a:solidFill>
                <a:uFillTx/>
                <a:latin typeface="Arial"/>
              </a:rPr>
              <a:t>,</a:t>
            </a:r>
            <a:r>
              <a:rPr b="0" i="1" lang="en-US" sz="2000" spc="-1" strike="noStrike" u="sng" baseline="30000">
                <a:solidFill>
                  <a:srgbClr val="ffffff"/>
                </a:solidFill>
                <a:uFillTx/>
                <a:latin typeface="Arial"/>
              </a:rPr>
              <a:t>3</a:t>
            </a:r>
            <a:r>
              <a:rPr b="0" i="1" lang="en-US" sz="2000" spc="-1" strike="noStrike">
                <a:solidFill>
                  <a:srgbClr val="ffffff"/>
                </a:solidFill>
                <a:latin typeface="Arial"/>
              </a:rPr>
              <a:t>, Milena Atanasova</a:t>
            </a:r>
            <a:r>
              <a:rPr b="0" i="1" lang="en-US" sz="2000" spc="-1" strike="noStrike" baseline="30000">
                <a:solidFill>
                  <a:srgbClr val="ffffff"/>
                </a:solidFill>
                <a:latin typeface="Arial"/>
              </a:rPr>
              <a:t>1</a:t>
            </a:r>
            <a:r>
              <a:rPr b="0" i="1" lang="en-US" sz="2000" spc="-1" strike="noStrike">
                <a:solidFill>
                  <a:srgbClr val="ffffff"/>
                </a:solidFill>
                <a:latin typeface="Arial"/>
              </a:rPr>
              <a:t>,</a:t>
            </a:r>
            <a:r>
              <a:rPr b="0" i="1" lang="en-US" sz="2000" spc="-1" strike="noStrike" baseline="30000">
                <a:solidFill>
                  <a:srgbClr val="ffffff"/>
                </a:solidFill>
                <a:latin typeface="Arial"/>
              </a:rPr>
              <a:t>2</a:t>
            </a:r>
            <a:r>
              <a:rPr b="0" i="1" lang="en-US" sz="2000" spc="-1" strike="noStrike">
                <a:solidFill>
                  <a:srgbClr val="ffffff"/>
                </a:solidFill>
                <a:latin typeface="Arial"/>
              </a:rPr>
              <a:t>, Emiliana Konova</a:t>
            </a:r>
            <a:r>
              <a:rPr b="0" i="1" lang="en-US" sz="2000" spc="-1" strike="noStrike" baseline="30000">
                <a:solidFill>
                  <a:srgbClr val="ffffff"/>
                </a:solidFill>
                <a:latin typeface="Arial"/>
              </a:rPr>
              <a:t>1</a:t>
            </a:r>
            <a:r>
              <a:rPr b="0" i="1" lang="en-US" sz="2000" spc="-1" strike="noStrike">
                <a:solidFill>
                  <a:srgbClr val="ffffff"/>
                </a:solidFill>
                <a:latin typeface="Arial"/>
              </a:rPr>
              <a:t>,</a:t>
            </a:r>
            <a:r>
              <a:rPr b="0" i="1" lang="en-US" sz="2000" spc="-1" strike="noStrike" baseline="30000">
                <a:solidFill>
                  <a:srgbClr val="ffffff"/>
                </a:solidFill>
                <a:latin typeface="Arial"/>
              </a:rPr>
              <a:t>3</a:t>
            </a:r>
            <a:r>
              <a:rPr b="0" i="1" lang="en-US" sz="2000" spc="-1" strike="noStrike">
                <a:solidFill>
                  <a:srgbClr val="ffffff"/>
                </a:solidFill>
                <a:latin typeface="Arial"/>
              </a:rPr>
              <a:t>, Stephan Baydanoff </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Biology and Pathophysiology, Medical University of Pleven, Bulgaria</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er of Clinical Immunology, University Hospital of Pleven, Bulgaria megy_ng_80@yahoo.com</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er for Reproductive Health, Medical University of Pleven, Bulga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Figure 1. Plasma anti-α-elastin antibodies in ICR, SAMR1 and SAMP8 mice</a:t>
            </a:r>
            <a:endParaRPr b="0" lang="en-US" sz="2800" spc="-1" strike="noStrike">
              <a:solidFill>
                <a:srgbClr val="b7e7ff"/>
              </a:solidFill>
              <a:latin typeface="Arial"/>
            </a:endParaRPr>
          </a:p>
        </p:txBody>
      </p:sp>
      <p:pic>
        <p:nvPicPr>
          <p:cNvPr id="101" name="" descr=""/>
          <p:cNvPicPr/>
          <p:nvPr/>
        </p:nvPicPr>
        <p:blipFill>
          <a:blip r:embed="rId2"/>
          <a:stretch/>
        </p:blipFill>
        <p:spPr>
          <a:xfrm>
            <a:off x="1042920" y="1628640"/>
            <a:ext cx="6996240" cy="4579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EAb showed the same pattern of changing in age and genders as AEAb (Figure 2). They increased with age and were higher in female compared with male. Surprisingly in P8 mice both female and male showed highest levels of ATEAb at 9 months. Probably the increased degradation provokes some mechanisms of compensative synthesi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Figure 2. Plasma anti-tropoelastin antibodies in ICR, SAMR1 and SAMP8 mice</a:t>
            </a:r>
            <a:endParaRPr b="0" lang="en-US" sz="2800" spc="-1" strike="noStrike">
              <a:solidFill>
                <a:srgbClr val="b7e7ff"/>
              </a:solidFill>
              <a:latin typeface="Arial"/>
            </a:endParaRPr>
          </a:p>
        </p:txBody>
      </p:sp>
      <p:pic>
        <p:nvPicPr>
          <p:cNvPr id="104" name="" descr=""/>
          <p:cNvPicPr/>
          <p:nvPr/>
        </p:nvPicPr>
        <p:blipFill>
          <a:blip r:embed="rId2"/>
          <a:stretch/>
        </p:blipFill>
        <p:spPr>
          <a:xfrm>
            <a:off x="1042920" y="1484280"/>
            <a:ext cx="6835680" cy="500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tio ATEAb/AEAb was &gt; 1 in the control ICR strain for both ages and genders (Table 2, Figure 3). The lower ratio of the models of accelerated senescence reflects the decreased production of tropoelastin. All male groups in ICR and R1 showed bigger ratio than matched female groups. The ratio in P8 on 3 and 9 months was bigger in female - despite their higher level of elastin degrad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Figure 3. The ratios of synthesis  (ATEAb) to degradation (AEAb) in ICR, SAMR1 and SAMP8 mice.</a:t>
            </a:r>
            <a:endParaRPr b="0" lang="en-US" sz="2800" spc="-1" strike="noStrike">
              <a:solidFill>
                <a:srgbClr val="b7e7ff"/>
              </a:solidFill>
              <a:latin typeface="Arial"/>
            </a:endParaRPr>
          </a:p>
        </p:txBody>
      </p:sp>
      <p:pic>
        <p:nvPicPr>
          <p:cNvPr id="107" name="" descr=""/>
          <p:cNvPicPr/>
          <p:nvPr/>
        </p:nvPicPr>
        <p:blipFill>
          <a:blip r:embed="rId2"/>
          <a:stretch/>
        </p:blipFill>
        <p:spPr>
          <a:xfrm>
            <a:off x="1258920" y="1989000"/>
            <a:ext cx="6745320" cy="423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Conclusion</a:t>
            </a:r>
            <a:br>
              <a:rPr sz="4000"/>
            </a:br>
            <a:endParaRPr b="0" lang="en-US" sz="4000" spc="-1" strike="noStrike">
              <a:solidFill>
                <a:srgbClr val="b7e7ff"/>
              </a:solidFill>
              <a:latin typeface="Arial"/>
            </a:endParaRPr>
          </a:p>
        </p:txBody>
      </p:sp>
      <p:sp>
        <p:nvSpPr>
          <p:cNvPr id="109" name="PlaceHolder 2"/>
          <p:cNvSpPr>
            <a:spLocks noGrp="1"/>
          </p:cNvSpPr>
          <p:nvPr>
            <p:ph/>
          </p:nvPr>
        </p:nvSpPr>
        <p:spPr>
          <a:xfrm>
            <a:off x="468000" y="836280"/>
            <a:ext cx="8218440" cy="528948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ing is a complex process involving multiple tissue and organs. Aging of elastic tissue could be partially assessed by estimation the ratio of synthesis and degradation of the elastin (Colburn et al; 2006).</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le of AEAb and ATEAb in SAM strain has not been an object of previous studies. This study shows that there are differences in plasma AEAb and ATEAb levels in SAM mice compared with ICR and impaired ratio of synthesis to degradation in these models of aging. Tendency of increasing of AEAb with age is noted in ICR. This tendency changes in significant increase of AEAb in both substrains SAMR1 and SAMP8 compared to ICR.   The relationship between elastin turnover and aging in senescence accelerated models is field for the future exploration. The measurement of these antibodies may represent immunological markers of elastin production and degradation in ag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Acknowledgements</a:t>
            </a: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ork is a part of an international research project “Elast-age”, targeting the aging of elastic tissue, which is contributed by the European Community (EU, FP6 N 018960). The authors thank to Prof. Sandberg, Loma Linda USA for his kind supply of porcine aortic tropoelastin and to Gilles Faury and Marion Coquand from Laboratoire "Physiopathologies vasculaires: interactions cellulaires, signalisation et vieillissement"</a:t>
            </a:r>
            <a:br>
              <a:rPr sz="2400"/>
            </a:br>
            <a:r>
              <a:rPr b="0" lang="en-US" sz="2400" spc="-1" strike="noStrike">
                <a:solidFill>
                  <a:srgbClr val="ffffff"/>
                </a:solidFill>
                <a:latin typeface="Arial"/>
              </a:rPr>
              <a:t> INSERM, Universite “Joseph Fourier”, Grenoble France for the maintaining of the animals and delivery of the SAM samp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Introduction:</a:t>
            </a:r>
            <a:endParaRPr b="0" lang="en-US" sz="4400" spc="-1" strike="noStrike">
              <a:solidFill>
                <a:srgbClr val="b7e7ff"/>
              </a:solidFill>
              <a:latin typeface="Arial"/>
            </a:endParaRPr>
          </a:p>
        </p:txBody>
      </p:sp>
      <p:sp>
        <p:nvSpPr>
          <p:cNvPr id="85" name="PlaceHolder 2"/>
          <p:cNvSpPr>
            <a:spLocks noGrp="1"/>
          </p:cNvSpPr>
          <p:nvPr>
            <p:ph/>
          </p:nvPr>
        </p:nvSpPr>
        <p:spPr>
          <a:xfrm>
            <a:off x="468360" y="1341000"/>
            <a:ext cx="8291520" cy="49244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nescent-accelerated mice (SAM) are a model of accelerated aging that was selected phenotypicaly from AKR/J strain (Takeda et al., 1981). This model includes 9 senescent-accelerated mice prone (SAMP) substrains and 3 senescent-accelerated mice resistant (SAMR) substrains, each one characterized with different abnormalities. In our investigation were used SAMP8 and SAMR1. Main characteristics of SAMP8 are age-related learning and memory deficits, anxiety, impaired immune system, age-dependent deposition of amyloid β-peptide. Increased oxidative stress in SAMP8 could be contributed by impaired neuroprotection and abnormal immune response. SAMR1 are considered as a control group of SAMP8 and characterized with normal aging, non-tymic lymphoma, histiocytic sarcoma and ovarian cysts. (Butterfield and Poon, 200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Introduction:</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antibodies to α-elastin and tropoelastin are found in the sera of healthy human subjects. AEAb class IgG showed relatively high levels in the serum of children, growing even higher in the serum of subjects 18-20 years old. Then their levels stabilized in the serum of 30-60 years olds and gradually decreased thereafter (Baydanoff et al, 1987; Baydanoff et al, 1991). </a:t>
            </a:r>
            <a:r>
              <a:rPr b="0" lang="en-GB" sz="2400" spc="-1" strike="noStrike">
                <a:solidFill>
                  <a:srgbClr val="ffffff"/>
                </a:solidFill>
                <a:latin typeface="Arial"/>
              </a:rPr>
              <a:t>AEAb</a:t>
            </a:r>
            <a:r>
              <a:rPr b="0" lang="en-US" sz="2400" spc="-1" strike="noStrike">
                <a:solidFill>
                  <a:srgbClr val="ffffff"/>
                </a:solidFill>
                <a:latin typeface="Arial"/>
              </a:rPr>
              <a:t> seems to be a part of a homeostatic mechanism, which cleans changed elastin structures via </a:t>
            </a:r>
            <a:r>
              <a:rPr b="0" i="1" lang="en-US" sz="2400" spc="-1" strike="noStrike">
                <a:solidFill>
                  <a:srgbClr val="ffffff"/>
                </a:solidFill>
                <a:latin typeface="Arial"/>
              </a:rPr>
              <a:t>in situ</a:t>
            </a:r>
            <a:r>
              <a:rPr b="0" lang="en-US" sz="2400" spc="-1" strike="noStrike">
                <a:solidFill>
                  <a:srgbClr val="ffffff"/>
                </a:solidFill>
                <a:latin typeface="Arial"/>
              </a:rPr>
              <a:t> destruction or via opsonization of the products of the degradation. Aging of elastic tissue could be partially assessed by estimation the ratio of synthesis (ATEAb) and degradation (AEAb) of the elastin (Colburn et al; 2006).</a:t>
            </a:r>
            <a:r>
              <a:rPr b="0" lang="bg-BG"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Aim</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im of this study was to establish the level of AEAb and ATEAb in senescence accelerated prone (SAMP8) and senescence accelerated resistant (SAMR1), compared with ICR strain at different ages, and to asses the ratio between synthesis and degradation of elastin in this animal model of aging. To address the changes of the elastin metabolism with age, we investigated AEAb and ATEAb in plasma of SAMP8, SAMR1 and ICR</a:t>
            </a:r>
            <a:r>
              <a:rPr b="1" lang="en-US" sz="2800" spc="-1" strike="noStrike">
                <a:solidFill>
                  <a:srgbClr val="ffffff"/>
                </a:solidFill>
                <a:latin typeface="Arial"/>
              </a:rPr>
              <a:t> </a:t>
            </a:r>
            <a:r>
              <a:rPr b="0" lang="en-US" sz="2800" spc="-1" strike="noStrike">
                <a:solidFill>
                  <a:srgbClr val="ffffff"/>
                </a:solidFill>
                <a:latin typeface="Arial"/>
              </a:rPr>
              <a:t>mice at 3 and 9 month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Materals and Methods</a:t>
            </a:r>
            <a:br>
              <a:rPr sz="4000"/>
            </a:br>
            <a:endParaRPr b="0" lang="en-US" sz="40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nimals</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le and female SAMP8 and SAMR1 were obtained from Harland UK Ltd (Blackthorn, UK) and maintained and breeding for the aims of the project in the Laboratoire "Physiopathologies vasculaires: interactions cellulaires, signalisation et vieillissement"</a:t>
            </a:r>
            <a:br>
              <a:rPr sz="2000"/>
            </a:br>
            <a:r>
              <a:rPr b="0" lang="en-US" sz="2000" spc="-1" strike="noStrike">
                <a:solidFill>
                  <a:srgbClr val="ffffff"/>
                </a:solidFill>
                <a:latin typeface="Arial"/>
              </a:rPr>
              <a:t>INSERM, Universite “Joseph Fourier”, Grenoble France. Plasma samples were collected from 3 and 9 months old SAMP8 and SAMR1, freezed and shipped on dry ice from Grenoble France to the Center of Clinical Immunology of University Hospital of Pleven, Bulgaria.  Plasma samples from ICR mice on 3 and 9 months were collected in the department of Biology and Pathophisiology of Medical University of Pleven, Bulgaria and held freezed until performing the assay.  The number of animals in each group is shown in Table 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e7ff"/>
                </a:solidFill>
                <a:latin typeface="Arial"/>
              </a:rPr>
              <a:t>Table 1. </a:t>
            </a:r>
            <a:r>
              <a:rPr b="0" lang="en-US" sz="2400" spc="-1" strike="noStrike">
                <a:solidFill>
                  <a:srgbClr val="b7e7ff"/>
                </a:solidFill>
                <a:latin typeface="Arial"/>
              </a:rPr>
              <a:t>Distribution of experimental animals in investigated groups.  F - female, M - male</a:t>
            </a:r>
            <a:br>
              <a:rPr sz="2400"/>
            </a:br>
            <a:endParaRPr b="0" lang="en-US" sz="2400" spc="-1" strike="noStrike">
              <a:solidFill>
                <a:srgbClr val="b7e7ff"/>
              </a:solidFill>
              <a:latin typeface="Arial"/>
            </a:endParaRPr>
          </a:p>
        </p:txBody>
      </p:sp>
      <p:graphicFrame>
        <p:nvGraphicFramePr>
          <p:cNvPr id="93" name=""/>
          <p:cNvGraphicFramePr/>
          <p:nvPr/>
        </p:nvGraphicFramePr>
        <p:xfrm>
          <a:off x="468360" y="1125360"/>
          <a:ext cx="8229600" cy="5514840"/>
        </p:xfrm>
        <a:graphic>
          <a:graphicData uri="http://schemas.openxmlformats.org/drawingml/2006/table">
            <a:tbl>
              <a:tblPr/>
              <a:tblGrid>
                <a:gridCol w="2741760"/>
                <a:gridCol w="2746080"/>
                <a:gridCol w="2741760"/>
              </a:tblGrid>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 substrain and gender</a:t>
                      </a:r>
                      <a:r>
                        <a:rPr b="0" lang="bg-BG"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months</a:t>
                      </a:r>
                      <a:r>
                        <a:rPr b="0" lang="bg-BG"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months</a:t>
                      </a:r>
                      <a:r>
                        <a:rPr b="0" lang="bg-BG"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8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R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8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R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8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R1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0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R1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8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8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6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8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7e7ff"/>
                </a:solidFill>
                <a:latin typeface="Arial"/>
              </a:rPr>
              <a:t>Measurement of AEAb and ATEAb</a:t>
            </a:r>
            <a:endParaRPr b="0" lang="en-US" sz="40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pha elastin was obtained from aortas of ICR mice at different ages by the method of Souvage et al 1998. Porcine aortic tropoelastin was kind gift by Prof. Sandberg, Loma Linda USA. </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EAb and ATEAb were assessed on the principles of direct ELISA and α-elastin or tropoelastin were used as antige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Statistics</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imal groups were compared by one way analysis of variance (ANOVA) coupled with LSD Post Hock test. All samples were assayed in triplicate. Differences between strains, ages and genders were considered significant for p values less than 0.0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1" lang="en-US" sz="4400" spc="-1" strike="noStrike">
                <a:solidFill>
                  <a:srgbClr val="b7e7ff"/>
                </a:solidFill>
                <a:latin typeface="Arial"/>
              </a:rPr>
              <a:t>Results</a:t>
            </a:r>
            <a:endParaRPr b="0" lang="en-US" sz="4400" spc="-1" strike="noStrike">
              <a:solidFill>
                <a:srgbClr val="b7e7ff"/>
              </a:solidFill>
              <a:latin typeface="Arial"/>
            </a:endParaRPr>
          </a:p>
        </p:txBody>
      </p:sp>
      <p:sp>
        <p:nvSpPr>
          <p:cNvPr id="99" name="PlaceHolder 2"/>
          <p:cNvSpPr>
            <a:spLocks noGrp="1"/>
          </p:cNvSpPr>
          <p:nvPr>
            <p:ph/>
          </p:nvPr>
        </p:nvSpPr>
        <p:spPr>
          <a:xfrm>
            <a:off x="468000" y="1268280"/>
            <a:ext cx="8218440" cy="4857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EAb and ATEAb were present in all the plasma tested. The optical density values for both AEAb and ATEAb are compiled in Table 2. The levels of AEAb showed significant increase with age in each of all tree strains (Figure 1). No significant age-related differences (p=0.965) in the AEAb levels were seen in male ICR strain. The highest level showed AEAb in R1 9 months old female animals (OD=0.765±0.120).</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EAb in the plasma of both SAMR1 and SAMP8 were increased relative to the levels measured in ICR strain on the matched ages (p&lt;0.001).</a:t>
            </a:r>
            <a:endParaRPr b="0" lang="en-US" sz="2400" spc="-1" strike="noStrike">
              <a:solidFill>
                <a:srgbClr val="ffffff"/>
              </a:solidFill>
              <a:latin typeface="Arial"/>
            </a:endParaRPr>
          </a:p>
          <a:p>
            <a:pPr marL="343080" indent="-343080" algn="just">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ces between genders at 9 months in each strain showed significantly higher levels of AEAb in the female animals (p&lt;0.05). The same ratio in younger 3 months old animals was observed only in SAMR1(p=0.0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13:04:51Z</dcterms:created>
  <dc:creator>User</dc:creator>
  <dc:description/>
  <dc:language>en-US</dc:language>
  <cp:lastModifiedBy>User</cp:lastModifiedBy>
  <dcterms:modified xsi:type="dcterms:W3CDTF">2011-06-09T08:42:54Z</dcterms:modified>
  <cp:revision>7</cp:revision>
  <dc:subject/>
  <dc:title>Immunological aspects of elastin turnover in senescence-prone and senescence-resistant mouse strains</dc:title>
</cp:coreProperties>
</file>