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4EA-8565-4A37-ACC1-01A05D61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B8E-FE3F-42BC-9A8C-67E248DD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EFC-549A-43D8-94A7-31CC4518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D76-4575-4B66-B460-46CF38A5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49A-7554-42BD-858D-120507A1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182-EEA3-4384-874E-754FB916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682-ABEA-4C0E-9C92-A0BBE9B5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810-EC09-40EC-B99A-0EDD3C69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01F-13E6-44DB-91BC-4CFEDA64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669-3175-4155-8920-3EA28CA2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124-FD6D-46B9-8DE0-2A4F2609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080-9007-4C59-9EA8-0973324A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DFC7-43B0-44CC-8895-1ACD526A30F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NTI-ELASTIN ANTIBODIES BEFORE AND AFTER IVIG THERAPY IN RECURRENT PREGNANCY L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3789360"/>
            <a:ext cx="6985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E. Konova</a:t>
            </a:r>
            <a:r>
              <a:rPr b="0" lang="bg-BG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M. Atanasova</a:t>
            </a:r>
            <a:r>
              <a:rPr b="0" lang="bg-BG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K. Todorov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T. Lukanov</a:t>
            </a:r>
            <a:r>
              <a:rPr b="0" lang="bg-BG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T. Alexovska</a:t>
            </a:r>
            <a:r>
              <a:rPr b="0" lang="bg-BG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Medical University of Pleven, Pleve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University Hospital "Maichin Dom", Sofia, 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ethod of Study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α-elastin IgG and IgM antibodies were measured by a home made ELISA in serum samples in tree different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con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n the positive pregnancy test, before the first IVIg in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-28 days after the first IVIg infusion (Immunovenin intact, amp. 5 ml, 250 mg, BulBio, Bulgaria, 200 mg/kg) during the pregna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 analyses of variance (ANOVA) and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Least Significant Difference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used for a statistical analysis. Statistical package used SPSS, v.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s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5300280"/>
            <a:ext cx="82915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ing the RPL non-pregnant patients with the healthy non-pregnant controls showed a significantly increas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n IgG autoantibody in RP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elastin IgM autoantibodies did not show any significant difference between the non-pregnant patients and contr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87280" y="907920"/>
          <a:ext cx="6553440" cy="42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07920"/>
                    <a:ext cx="6553440" cy="42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s</a:t>
            </a:r>
            <a:r>
              <a:rPr b="0" lang="bg-BG" sz="4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5300280"/>
            <a:ext cx="82184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elastin IgG autoantibody tested upon positive pregnancy test did not differ significantly compared to the non-pregnant state but it was decreased significantly 25-28 days after the first IVIg infusion (p&lt;0.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47640" y="1268280"/>
          <a:ext cx="628668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68280"/>
                    <a:ext cx="62866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r>
              <a:rPr b="0" lang="bg-BG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al anti-elastin and anti-anti-elastin autoantibodies were identified in IVIg prepa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elastin IgG autoantibodies were increased in patients with RPL and may contribute to the pathogenesis of pregnancy los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significant decrease after IVIg infusion suggests 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he presence in IVIg of anti-idiotypes against anti-elastin autoantibod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ould be an additional mechanism of the beneficial effect of IVIg in reproductive failure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Elastin is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of the most hydrophobic polypeptides, the least soluble prot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in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xtremely durable, lasting the lifetime of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org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is an essential mechanical component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many tissues including arterial wall, sk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lu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uteru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pregnancy, the elastin content of the human uterus increases four- to fivefold and in non-gravid uteri, the elastin content increases with parit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nja-Smith Z. et al, 19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Autoantibodies to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a-elastin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(elastin breakdown produc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tropoelastin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(elastin precursor) are found in the serum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healthy human subje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These physiological autoantibod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are assumed to be a part of a homeostatic mechanism, whi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clears altered elastin structures </a:t>
            </a:r>
            <a:r>
              <a:rPr b="0" i="1" lang="bg-BG" sz="2800" spc="-1" strike="noStrike">
                <a:solidFill>
                  <a:srgbClr val="000000"/>
                </a:solidFill>
                <a:latin typeface="Arial"/>
              </a:rPr>
              <a:t>via in situ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destruction or </a:t>
            </a:r>
            <a:r>
              <a:rPr b="0" i="1" lang="bg-BG" sz="2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opsonization of the products of degrad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A marked 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in pathological anti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elastin autoantibodies was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in patients with autoimmune dise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SLE, scleroderma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polyarteritis nodo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and their role in the pathogen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of autoimmune alterations have been sugges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of anti-elast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G and IgM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autoantibod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established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in RP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ients, compared to the healthy non-pregnant contr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Konova et al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nti-elastin antibodies and elastin turnover in normal pregnancy and RPL. AJRI, 2009,167-1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IV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apy has been successfully used as treatment for RPL, associated with aPL antibodies, elevated peripheral NK cells and abnormal NK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idiotypic activity of IVIg is probably the most important mechanism of action of IVIg in the treatment of autoimmune diseases and it results in short-term neutralization of autoantibodies, confirmed by the inhibitory effect of IVIg on aCL and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3357360"/>
            <a:ext cx="40384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of anti-elastin IgG autoantibodies in patients’ sera before and after pre-incubation with IVIg showed dose-dependent modulation of the levels of these autoanibodies due to idiotype-anti-idiotype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932360" y="3933720"/>
          <a:ext cx="3956040" cy="222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3933720"/>
                    <a:ext cx="395604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5076720" cy="1655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260280"/>
            <a:ext cx="79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The presence of anti-idiotypes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elastin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autoantibod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within IVIg preparations has been confirmed by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inhibitory effect of IVIg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elasti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 of human sera in our previou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859280" y="1773360"/>
          <a:ext cx="4032360" cy="2085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1773360"/>
                    <a:ext cx="403236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928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oled IVIg consists of natural autoantibodies,e.g. posses anti-elastin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ce of anti-elastin antibodies in 44 aliquots of different IVIg lots was tested by indirect ELISA with human aortic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lastin 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Ig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parations showed specif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e-dependent reaction with the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tige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549360"/>
          <a:ext cx="4316400" cy="226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9360"/>
                    <a:ext cx="431640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50920" y="2852640"/>
          <a:ext cx="4316400" cy="223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852640"/>
                    <a:ext cx="43164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5157720"/>
            <a:ext cx="52196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3213000"/>
            <a:ext cx="82296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m of this study was to investigate elastin autoantibodies in non-pregnant patients with a history of RPL as well as before and after low-dose IVIg therapy during the next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ethod of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s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2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before and after con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on crite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2 or more consecutive pregnancy losses before 10 weeks’ ge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karyotype abnorm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one or more of the following autoantibodies: aCL, anti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GP-I,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i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yreoglobulin and/or anti-T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y non-pregnant women with no history of miscarriage or autoimmune diseases, at least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revious successful pregn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8:31:12Z</dcterms:created>
  <dc:creator>User</dc:creator>
  <dc:description/>
  <dc:language>en-US</dc:language>
  <cp:lastModifiedBy>User</cp:lastModifiedBy>
  <dcterms:modified xsi:type="dcterms:W3CDTF">2011-06-09T07:23:04Z</dcterms:modified>
  <cp:revision>36</cp:revision>
  <dc:subject/>
  <dc:title>СЕРУМНИ АНТИ-ЕЛАСТИНОВИ АНТИТEЛА ПРЕДИ И СЛЕД ТЕРАПИЯ С ИНТРАВЕНОЗЕН ГАМА-ГЛОБУЛИН ПРИ ЖЕНИ С ПОВТАРЯЩИ СЕ СПОНТАННИ АБОРТИ</dc:title>
</cp:coreProperties>
</file>